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83B-41E9-4175-8318-72322AF6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CAB-244F-4944-BA54-21AD27C3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F3A-70EF-4140-B297-CB9072F0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350-16EE-4966-B714-E6D6288F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8088-876A-4E2E-8047-931EEBF5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3CD-E3A5-4A77-ACE9-C6D30D9B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D661-1DB0-49E3-B6A9-19F70270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7B75-015C-4ED5-8217-0A553CB6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EA22-D073-4798-A4B5-37F1945E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265-8870-406A-80ED-F22DE07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DED-002D-4078-9FF3-1EAE5A8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496-E455-43E3-8414-2B2C941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CEF5-F75E-453F-88E0-ABC597E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23A3-5882-48B0-9377-8F4C91D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45F8-2C11-499F-80E2-DD68D66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A59F-94B2-481A-B023-525CA8A5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0C62-6F36-4B26-9C0F-799D666F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872-9D95-471D-B088-1232301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F96-F533-4148-A02A-E84FC93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1A5-8BA0-4391-B852-CCD5ACFF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658-BDBD-4B1E-8787-28D6FDA9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F3F-EB23-4606-8656-E76FFDFE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B41-7EA6-4200-BB8A-E9E4036E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56C-4D7B-4C83-B8B6-8DF52DC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hyperlink" Target="mailto:hinman@sandiego.edu?subject=PowerPoint%20Presentation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F78-283A-4BB8-85CA-30F066E411A8}" type="datetime">
              <a:rPr b="1" lang="en-US" sz="1400" spc="-1" strike="noStrike">
                <a:solidFill>
                  <a:srgbClr val="003366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FC6-83FE-4772-B857-BBEEE1D6780C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c1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95A5-25D9-4830-94FD-73B3D8B88566}" type="datetime">
              <a:rPr b="1" lang="en-US" sz="1400" spc="-1" strike="noStrike">
                <a:solidFill>
                  <a:srgbClr val="003366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96C-2909-4C53-8CA1-992E1507D324}" type="slidenum">
              <a:rPr b="1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983120"/>
            <a:ext cx="617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wrence M. Hinman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rector, The Values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270080" cy="144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52760" cy="1650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252360" y="525780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UnivrstyRoman Bd BT"/>
              </a:rPr>
              <a:t>University of San Di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05920" y="548640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05920" y="54864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52680" y="3078000"/>
            <a:ext cx="55929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dc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a3dc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asic Ethics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E104-8DAA-4824-BC22-DBD84A1752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0DDAE8-E279-47E9-BA81-1070BBD2C8BB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thics of Justice</a:t>
            </a:r>
            <a:br>
              <a:rPr sz="3000"/>
            </a:b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288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llowing the rules laws and seeking consequences for those who do no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dea of reparation and making up for past mistakes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52920" y="2006640"/>
            <a:ext cx="317520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3D6-F09F-46AC-8EB0-4F58CA8F28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0C1D0-0196-4646-AB18-6196F98D906C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Virtu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cisions are analyzed by whether they show that you, as an individual, are trying to be the very best person you can be.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sumes good persons will make good decis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13660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C2C-BACB-49B0-BD41-756703BD65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0E2C0-CD5E-4A92-BE43-ECEE55B2D190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of these ethics do you use to make decisions?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73240" y="1981080"/>
          <a:ext cx="7665840" cy="4273560"/>
        </p:xfrm>
        <a:graphic>
          <a:graphicData uri="http://schemas.openxmlformats.org/drawingml/2006/table">
            <a:tbl>
              <a:tblPr/>
              <a:tblGrid>
                <a:gridCol w="4160880"/>
                <a:gridCol w="129528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Con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Egot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Du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spect for 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Human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Jus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Vi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D0F-1EC5-4546-983C-5F9803F963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6AFF5-BFFB-4145-9E5B-E2E368014CEE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Quickwrit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ich type of ethics do you think is the most important?  Why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en finished, you will read your quickwrite to a partner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B40-4D87-4383-981A-C6337BA28D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26270-A1DC-4FAE-A836-2BD901E74E2B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56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n what basis do we make moral decisions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31680" y="838080"/>
            <a:ext cx="828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Religion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king decisions based on religious teachings and tex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Conscien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do you think and feel is right?  Do you feel good about it or guilty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 Egoism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oosing only what is right for you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Duty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lfilling the expectations of a rol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Respect of Others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Golden Rul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Human Rights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 making based in the belief that all people have inalienable right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Servi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oing good for others and your community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Justic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llowing rules and the law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thics of Virtue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riving to perfect yourself in every way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3BB-705E-4771-8A8E-162BC394BE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A5F8B-2EF7-4C20-9C00-FFF814234EC7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Relig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ing good is equivalent to doing whatever the Bible--or the Qur’an or some other sacred text or source of revelation--tells you to do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is right” equals “What God tells me to do.”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7457"/>
          <a:stretch/>
        </p:blipFill>
        <p:spPr>
          <a:xfrm>
            <a:off x="6781680" y="3429000"/>
            <a:ext cx="1733760" cy="8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EF7-F856-4241-AB4B-F1D1AE9BB5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78CFB-16CA-4377-A88D-F8236A510ACC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Ethics of Our Own Conscience</a:t>
            </a:r>
            <a:br>
              <a:rPr sz="4000"/>
            </a:b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cience tells us what is right or wrong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 you feel good about the choice or do you feel guilty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unded on an optimistic view of human natu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aracterized by clear distinctions between what is right and what is wrong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CF9-462F-4AA8-86FD-A7C7FDC774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29813-A10D-4884-B390-88CBA29FFB96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Egotism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cision making through evaluating your own self-interes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equences for others is not important or of little importanc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ke decisions based only on what is good for yourself without taking anything else into consideration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6AA-F435-4830-B899-5E444981C9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D1DDB-7ECD-44B7-BFE4-A6FFE9CA4B1F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Duty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king decisions based on the role you play in socie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uty may be determined b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3dc2"/>
                </a:solidFill>
                <a:latin typeface="Arial"/>
              </a:rPr>
              <a:t>Professional role</a:t>
            </a:r>
            <a:endParaRPr b="1" lang="en-US" sz="2000" spc="-1" strike="noStrike">
              <a:solidFill>
                <a:srgbClr val="3a3dc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physician’s duty to care for the sick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soldier’s duty to fight for his/her country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a3dc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3dc2"/>
                </a:solidFill>
                <a:latin typeface="Arial"/>
              </a:rPr>
              <a:t>Social role</a:t>
            </a:r>
            <a:endParaRPr b="1" lang="en-US" sz="2000" spc="-1" strike="noStrike">
              <a:solidFill>
                <a:srgbClr val="3a3dc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 parent’s duty to care for his or her children</a:t>
            </a:r>
            <a:endParaRPr b="1" lang="en-US" sz="18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03960" y="1981080"/>
            <a:ext cx="3054240" cy="35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439-2664-4584-AF6F-DACD4A72A0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8F673-C361-4F30-A8E0-B326451D2EEE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Respect of the Individual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uman interactions should be governed by rules of respect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way respect is shown can vary from culture to culture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oes your decision earn you respect?  Is your decision respecting others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Golden Rule”: Do unto others as you would have them do unto you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DB8-9016-4681-9DCA-F11531EAF3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1F73F-DD68-440B-9215-23310DDECEA2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thics of Human Right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s are made by weighing whether the decision affects yours or anyone else’s inalienable righ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ablished minimal conditions of human decenc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l men [women] are created equal.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Image of the Bill of Rights"/>
          <p:cNvPicPr/>
          <p:nvPr/>
        </p:nvPicPr>
        <p:blipFill>
          <a:blip r:embed="rId1"/>
          <a:stretch/>
        </p:blipFill>
        <p:spPr>
          <a:xfrm>
            <a:off x="5659560" y="25146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AD3-9493-4B1C-9022-7A1329FA44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EC08A-7300-4A93-8B99-BF22F6A0C3D4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thics of Serv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80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isions are made by evaluation of whether it will help someone or the community have a better lif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ake the world a better place”</a:t>
            </a:r>
            <a:endParaRPr b="1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mands a high degree of self-sacrifice—we must consider the consequences for everyon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533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Lawrence M. Hinma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C74-C7D9-46A6-B35D-5413809057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7675C-A383-4D06-95EE-7A928DDA7D40}" type="datetime1">
              <a:rPr lang="en-US"/>
              <a:t>07/29/26</a:t>
            </a:fld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00:19:29Z</dcterms:created>
  <dc:creator>Lawrence M. Hinman</dc:creator>
  <dc:description/>
  <dc:language>en-US</dc:language>
  <cp:lastModifiedBy>Administrator</cp:lastModifiedBy>
  <cp:lastPrinted>1998-02-15T18:04:34Z</cp:lastPrinted>
  <dcterms:modified xsi:type="dcterms:W3CDTF">2008-06-12T23:37:09Z</dcterms:modified>
  <cp:revision>46</cp:revision>
  <dc:subject>Basic moral orientations</dc:subject>
  <dc:title>Basic Moral Orientations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ethics.acusd.edu/theory/</vt:lpwstr>
  </property>
  <property fmtid="{D5CDD505-2E9C-101B-9397-08002B2CF9AE}" pid="9" name="LinkColor">
    <vt:r8>16711782</vt:r8>
  </property>
  <property fmtid="{D5CDD505-2E9C-101B-9397-08002B2CF9AE}" pid="10" name="MailAddress">
    <vt:lpwstr>hinman@acusd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wwwroot2\theory\Intro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